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8096-0C5B-4BAA-9D9A-8CD6430BC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87F5-8072-4094-BAC2-E57FC446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4E2D-8175-42DD-9DD9-A4F427160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DB05-C82A-4B0B-B39C-E4733D5E3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E6EF-09DF-44A2-AB0E-F0452757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A92F-6DEC-44EB-8F02-38AA86B9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165C-C5F8-4DF7-B559-33E1AF46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2EAA-7B70-4E38-8D38-28B66AA2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FB40-563A-4028-86C2-D3C485F1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9C7C-EA11-4755-92B1-FF3CD6D9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6EEC-7958-45EF-A32C-17008473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E666-4638-4C36-AECD-8C9D47DE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3044-4369-490A-8FD7-A89FAA955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tsalwaystougherinrussia2010.wikispaces.com/file/view/Culture+of+Russia+Part+2+P.1+2010.ppt" TargetMode="External"/><Relationship Id="rId2" Type="http://schemas.openxmlformats.org/officeDocument/2006/relationships/hyperlink" Target="http://itsalwaystougherinrussia2010.wikispaces.com/file/view/LANGUAGE+IN+RUSSIA.ppt" TargetMode="External"/><Relationship Id="rId3" Type="http://schemas.openxmlformats.org/officeDocument/2006/relationships/hyperlink" Target="http://itsalwaystougherinrussia2010.wikispaces.com/file/view/Holidays%2CReligion%2Cand+Folk+Stories+of+Russia+Period+1.ppt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cc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orte"/>
              </a:rPr>
              <a:t>Culture Of Russi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How to Survive in a Russian Househ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cript MT Bold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D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Before me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e on time, no more than 15 minutes later than inv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outdoor shoes, you may be given slippers to w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ess well, clothes that you might wear to the office, dressing well shows respect for your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 to be treated with respect and ho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 help to the hostess with the preparation or clearing when the meal is served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During me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Manners are necessary, the fork is held in the left hand and the knife in the right hand while e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ldest or most honored guest is served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begin eating until the host invites you to  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helpings are ur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men pour drinks for women next to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get up until you are invited to leave th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Gift Giving Etique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ies and friends give gifts on birthdays, New Year, and Orthodox Christ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invited to dinner or meal, bring a small g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 guests bring fl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give yellow fl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give gifts to a baby until after the baby is born. It is bad luck to do so soo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ssians often protest against gifts out of politeness, but if you offer the gift again afterwards, it will usually be acce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68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68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68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68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Delicacies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n meals and delicacies often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cht – soup made from b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chi – a type of soup made of cabb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roshki – meat styled like turno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linners – a type of rounded pa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vier – delicacy – eggs from the Sturgeon f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5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5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5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5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5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5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5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5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5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5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orte"/>
              </a:rPr>
              <a:t>Credi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Information by Liam Ro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Typed by Carmen Che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Designed by Carmen Che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With help from Anthony F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5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5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5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5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Other Power poi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 on the culture of Russi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By Carmen, Anthony, and Li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tsalwaystougherinrussia2010.wikispaces.com/file/view/Culture+of+Russia+Part+2+P.1+2010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tsalwaystougherinrussia2010.wikispaces.com/file/view/LANGUAGE+IN+RUSSIA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tsalwaystougherinrussia2010.wikispaces.com/file/view/Holidays%2CReligion%2Cand+Folk+Stories+of+Russia+Period+1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3:48:33Z</dcterms:created>
  <dc:creator> </dc:creator>
  <dc:description/>
  <dc:language>en-US</dc:language>
  <cp:lastModifiedBy> </cp:lastModifiedBy>
  <dcterms:modified xsi:type="dcterms:W3CDTF">2010-12-20T18:23:58Z</dcterms:modified>
  <cp:revision>18</cp:revision>
  <dc:subject/>
  <dc:title>Slide 1</dc:title>
</cp:coreProperties>
</file>